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82B4AE-DEDF-4611-A5C0-0302B82DBC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653E17-E1BF-4DE8-AA78-0BADE9C3B6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0CB418-A966-4A19-829F-ED86056800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8AE688-BBD6-4615-99DB-F282B5A611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0C1373-0746-4CF1-9D48-079E6B9440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CAA024-D891-451F-9AB4-1F131831EB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452B16-D673-43A2-B3ED-A3A5B69A03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30F5DC-9BBC-4447-8F79-C94B392E82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D203D0-11C7-41EA-A5C8-F674208512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D034B9-C61C-4EEA-B94A-46F78A64DD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4CC4C2-36DF-4431-AADF-CA7CE4A953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6E5576-6CBE-417F-90B7-6E0AF43C4B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A56BC2-E94D-4F9C-BFAE-1A3C31D270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D3352B-9DEF-48ED-A525-41B9078443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DA581C-64CF-4B68-A8B9-1FC4B95B3D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80FEFF-5F21-4AD3-BC1B-87E5343D5E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11E582-74BF-4BD4-BA6B-EF8FBB574A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B64B0E-3060-4465-B1B5-08454F0647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1EBE45-B849-431B-B705-143CCF528B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33EE12-041D-4202-9123-7CC2F9E11C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ED7F59-22BF-43AC-B578-E68349F3D7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F85F0B-646C-4B0D-A8C6-757467779D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0EFE47-D09D-42E1-8EEA-6FB82D640A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BD1501-A9AA-453A-A6E3-E07CC13237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DBEEC-0EDD-4E47-9B7B-45D64B6A87E5}"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84228-F480-4201-B293-378A4E9F08B0}"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reating Memories</a:t>
            </a:r>
            <a:endParaRPr b="0" lang="en-US" sz="4000" spc="-1" strike="noStrike">
              <a:solidFill>
                <a:srgbClr val="000000"/>
              </a:solidFill>
              <a:latin typeface="Verdana"/>
            </a:endParaRPr>
          </a:p>
        </p:txBody>
      </p:sp>
      <p:sp>
        <p:nvSpPr>
          <p:cNvPr id="86"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oquelm V. Abcede</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ex Michael Guiritan</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2362320" y="304920"/>
            <a:ext cx="4408200" cy="5867280"/>
          </a:xfrm>
          <a:prstGeom prst="rect">
            <a:avLst/>
          </a:prstGeom>
          <a:ln w="0">
            <a:noFill/>
          </a:ln>
        </p:spPr>
      </p:pic>
      <p:sp>
        <p:nvSpPr>
          <p:cNvPr id="88" name=""/>
          <p:cNvSpPr/>
          <p:nvPr/>
        </p:nvSpPr>
        <p:spPr>
          <a:xfrm>
            <a:off x="1295280" y="6172200"/>
            <a:ext cx="769644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2800" spc="-1" strike="noStrike">
                <a:solidFill>
                  <a:srgbClr val="cc0000"/>
                </a:solidFill>
                <a:latin typeface="Curlz MT"/>
              </a:rPr>
              <a:t>Happiness is more important than anything el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Just what about happiness is..</a:t>
            </a:r>
            <a:endParaRPr b="0" lang="en-US" sz="3800" spc="-1" strike="noStrike">
              <a:solidFill>
                <a:srgbClr val="000000"/>
              </a:solidFill>
              <a:latin typeface="Verdana"/>
            </a:endParaRPr>
          </a:p>
        </p:txBody>
      </p:sp>
      <p:sp>
        <p:nvSpPr>
          <p:cNvPr id="9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 don’t practically have to search for happiness. It’s in the environment we live in. All we have to do is to look around us. There are things that are essential and would make us happy.</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16T12:21:28Z</dcterms:created>
  <dc:creator>nave</dc:creator>
  <dc:description/>
  <dc:language>en-US</dc:language>
  <cp:lastModifiedBy>nave1386</cp:lastModifiedBy>
  <dcterms:modified xsi:type="dcterms:W3CDTF">2010-09-21T03:58:12Z</dcterms:modified>
  <cp:revision>2</cp:revision>
  <dc:subject/>
  <dc:title>Slide 1</dc:title>
</cp:coreProperties>
</file>